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54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theme/theme56.xml" ContentType="application/vnd.openxmlformats-officedocument.theme+xml"/>
  <Override PartName="/ppt/theme/theme25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54.xml" ContentType="application/vnd.openxmlformats-officedocument.theme+xml"/>
  <Override PartName="/ppt/theme/theme55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</p:sldMasterIdLst>
  <p:sldIdLst>
    <p:sldId id="256" r:id="rId62"/>
    <p:sldId id="257" r:id="rId63"/>
    <p:sldId id="258" r:id="rId64"/>
    <p:sldId id="259" r:id="rId65"/>
    <p:sldId id="260" r:id="rId66"/>
    <p:sldId id="261" r:id="rId67"/>
    <p:sldId id="262" r:id="rId68"/>
    <p:sldId id="263" r:id="rId69"/>
    <p:sldId id="264" r:id="rId70"/>
    <p:sldId id="265" r:id="rId71"/>
    <p:sldId id="266" r:id="rId72"/>
    <p:sldId id="267" r:id="rId73"/>
    <p:sldId id="268" r:id="rId74"/>
    <p:sldId id="269" r:id="rId75"/>
    <p:sldId id="270" r:id="rId76"/>
    <p:sldId id="271" r:id="rId77"/>
    <p:sldId id="272" r:id="rId78"/>
    <p:sldId id="273" r:id="rId79"/>
    <p:sldId id="274" r:id="rId80"/>
    <p:sldId id="275" r:id="rId81"/>
    <p:sldId id="276" r:id="rId82"/>
  </p:sldIdLst>
  <p:sldSz cx="9144000" cy="571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" Target="slides/slide1.xml"/><Relationship Id="rId63" Type="http://schemas.openxmlformats.org/officeDocument/2006/relationships/slide" Target="slides/slide2.xml"/><Relationship Id="rId64" Type="http://schemas.openxmlformats.org/officeDocument/2006/relationships/slide" Target="slides/slide3.xml"/><Relationship Id="rId65" Type="http://schemas.openxmlformats.org/officeDocument/2006/relationships/slide" Target="slides/slide4.xml"/><Relationship Id="rId66" Type="http://schemas.openxmlformats.org/officeDocument/2006/relationships/slide" Target="slides/slide5.xml"/><Relationship Id="rId67" Type="http://schemas.openxmlformats.org/officeDocument/2006/relationships/slide" Target="slides/slide6.xml"/><Relationship Id="rId68" Type="http://schemas.openxmlformats.org/officeDocument/2006/relationships/slide" Target="slides/slide7.xml"/><Relationship Id="rId69" Type="http://schemas.openxmlformats.org/officeDocument/2006/relationships/slide" Target="slides/slide8.xml"/><Relationship Id="rId70" Type="http://schemas.openxmlformats.org/officeDocument/2006/relationships/slide" Target="slides/slide9.xml"/><Relationship Id="rId71" Type="http://schemas.openxmlformats.org/officeDocument/2006/relationships/slide" Target="slides/slide10.xml"/><Relationship Id="rId72" Type="http://schemas.openxmlformats.org/officeDocument/2006/relationships/slide" Target="slides/slide11.xml"/><Relationship Id="rId73" Type="http://schemas.openxmlformats.org/officeDocument/2006/relationships/slide" Target="slides/slide12.xml"/><Relationship Id="rId74" Type="http://schemas.openxmlformats.org/officeDocument/2006/relationships/slide" Target="slides/slide13.xml"/><Relationship Id="rId75" Type="http://schemas.openxmlformats.org/officeDocument/2006/relationships/slide" Target="slides/slide14.xml"/><Relationship Id="rId76" Type="http://schemas.openxmlformats.org/officeDocument/2006/relationships/slide" Target="slides/slide15.xml"/><Relationship Id="rId77" Type="http://schemas.openxmlformats.org/officeDocument/2006/relationships/slide" Target="slides/slide16.xml"/><Relationship Id="rId78" Type="http://schemas.openxmlformats.org/officeDocument/2006/relationships/slide" Target="slides/slide17.xml"/><Relationship Id="rId79" Type="http://schemas.openxmlformats.org/officeDocument/2006/relationships/slide" Target="slides/slide18.xml"/><Relationship Id="rId80" Type="http://schemas.openxmlformats.org/officeDocument/2006/relationships/slide" Target="slides/slide19.xml"/><Relationship Id="rId81" Type="http://schemas.openxmlformats.org/officeDocument/2006/relationships/slide" Target="slides/slide20.xml"/><Relationship Id="rId82" Type="http://schemas.openxmlformats.org/officeDocument/2006/relationships/slide" Target="slides/slide21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8C90F-696C-4031-9278-7C569C108E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8AFB3-2454-4795-896E-89837C03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50B6E-C4E8-4A8B-BB77-9F2AC7C4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CD3EB-F9F4-4DF4-A99F-8331CA06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50429-3125-4913-A3B5-CBAAFD44D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C8464-C74B-4F87-8468-CEDEB5E15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D2E6A-E8CD-497D-81FE-97BB131E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4EE13-0150-4B1C-AE7B-09D5D611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79C947-E568-4D06-BC66-A70A351443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D82BFE-F1C7-4A8B-B6DE-06380125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61F7A7-CDDF-4B06-B98F-D8681A0D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751F5A-4318-4B45-AD20-C9F002F9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4335B2-6430-4386-A56B-127989484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3D610-1E94-4CB3-AAEC-B6704FA3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1C87A1-F6F3-45E7-B883-2B6604A32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8949CA-1702-4ECE-881C-7ADD31F7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AF4B57-838D-40C4-B413-5EE70248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E916E3-538E-49AC-90D5-7AD14593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FF88BF-D22B-40AC-9BFF-DB93047C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5F331E-6CDD-4205-A654-85C4E77F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5A1DFC-06F4-4150-A887-EE7B552B6B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01EC9-2443-4491-930D-44106001B0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0D15E-C621-4447-BC6E-EB317FDB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9A5E9-DD6D-478C-8743-A45924FD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571C0-0D09-4C6F-9356-EB287857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F9AAB-D5F0-4DA0-B8C8-AEAB5F44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5D41A-62A0-4221-9202-407526C5F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C55DE-98D4-4B4E-BE4C-585573148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BDD20-C7F6-430F-8065-547EA662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10C62-288E-4CD1-856F-BBBB166D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98A6A-2652-4970-BFA1-8D798F5C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17422-8923-4C3F-A010-3712F14F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347D5-6B40-4DE0-9547-230EEFF6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93B97-5BFF-4BAB-A491-CE65D98D43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61C37E-4817-4725-A2DB-774545594E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72C29-664D-4466-947D-72C19304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AAA510-0A1B-48E9-90A0-C876E867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6E8B56-CC00-4233-95EE-EE85E4E7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266634-AB2C-4D85-89B2-20CAA0D6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AE4459-BAA6-42AF-93F1-D6B02B4AD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B05C15-1506-4733-BADE-CE6A78671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0D2C93-5F5A-4389-AB43-349B4557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48144E-891E-488F-883F-63CDA9F5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7BEBFF-B9F4-4B94-B178-27E3785D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9E2698-21FB-4F84-9193-AD19D267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564D7A-2DD5-4C97-A60C-9AB38B4F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0C20B-2ABB-403F-B4B3-B97CFC9A65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7DEF37-5A9F-4B82-9BC5-DE920B6539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2F6B04-F261-4FF1-B99B-1BBA661646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8E6C8E-E59B-4DDF-9041-AD9C0B5B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AB106F-FE31-4EDF-BBBF-FE5D7112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A52872-8A2C-46E1-9F11-740BFDC7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95345B-C171-4054-A7D8-F2E0846BC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7FA68C-92AE-494E-9ED5-9F032E45A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9317A6-FF1F-4CF9-8FA1-9F9A2E0A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182067-3C01-4FF9-AA27-35710E18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F3710E-6100-42E5-943E-86952B64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C6DBE-C8B6-4C2B-B373-12944B50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CD935C-7258-4D6E-8CB9-4EAF942D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3406B0-E11B-42B9-B41A-53F328F5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6B2C7F-A850-400B-BC77-0D08B7BB7E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1C17A-5EB6-435A-9C3D-347AD58F02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AAB1F-3260-424C-B75E-EAB562CF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E610E-05C4-4482-B653-2C1B1EC0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C30E5-74C2-4141-BDAD-1D0A00AE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7DE76-C47C-4491-9C9E-902B089F0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5E042-B1D4-4452-8D93-B6740CE5A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D53BE-3261-45F5-9592-22B3C08A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3993D-1CE5-43B4-B0B0-82508EDB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AA57F-A641-482C-A3C7-2E926E5A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471E6-ACC6-4687-B0DD-D47FE5CA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84629-BFA9-425A-837C-9F6D7209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C4C74-E5AF-4ABF-A683-749AB184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BB233-A112-4941-A481-952E0A1340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ACB89F-EF44-4154-856C-AA3527B4F8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193465-31DE-4999-8D58-F87BC57D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900D91-1023-454C-8647-13EB5C02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A592FE-4AB3-4E38-880B-8DBFA51E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806D1F-C509-4A80-B54B-FB6042560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300B9-9366-4BEE-BDE4-D5E1DD4F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E132BB-BCA8-483B-9410-82BBFBCAD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F3BE67-DE4A-439D-8BE3-36762615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8205AA-0B60-4806-AEFA-95811CB5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9AEF74-1F62-4656-BC61-DD91BB76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C74463-D18E-4418-B2E5-A01E2D68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DAFF9F-4D27-483C-9DAE-8DEC4EE0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98762C-71FE-4F2E-BB31-DFAAA50A11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93C9DA-D0BA-4380-B56A-3877E8123F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164471-EDC0-4ED1-AE96-28105381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C0BBFB-B054-4D4B-9C63-D40D07E1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CEF51-DBEA-4162-8C0C-861EACA3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89B098-E15F-4C59-9288-63555EA8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680511-2388-4D41-BFE7-DB1562792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A2CF21-F224-4AE6-B750-A09546165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D40CFD-51D4-437C-9B71-8A21EA9B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43DF32-6D19-447C-B1DC-D48A6695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704EF7-5ABC-40AA-86AD-880FAE19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B29331-3A89-4FFD-9AF2-41C2AE52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F7CC62-1723-4468-8B6E-08485683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882653-D1A0-4027-BC73-AE96801431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8504E-307F-48BF-932B-FA65104D19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2720D-39B0-4DB6-B459-9E5F07A7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A4F3C-536F-4277-8B0B-AAC84B24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89BA7-7F87-482F-88B8-417647AE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3376D-369F-4832-8B5F-8294322E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99C98-FAC1-4A0B-BB8B-CDDD2125F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43663-BA75-43E2-803C-1F4831D5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BD1BF-2912-4575-A793-FB33A2C6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F01B2-FC83-4CF3-BFF9-93C18C9C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1FA8A-212A-4C9E-BA08-CBF46760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D170A-2CB5-4D06-8A59-A4609FB5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648FD-553A-4755-9963-9F9672AE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A7745-492A-4881-93A9-E67981A5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70549-B469-44A6-8ACC-73673BC46D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24A09F-A48C-46CF-80D3-2DCB363868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96FB3F-56D7-464A-8BC1-6F7F1A19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BC2677-0611-4CF1-9046-86CEF9E8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30505B-8CB0-4EA2-A3CD-FFE6B646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118A8C-194C-49BB-86EF-8BC1989BA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387578-4A35-4FAD-919C-46C748694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E8F98E-4D78-4651-BF09-04B003C1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627DE7-5F46-4D82-93FA-AB3D89B8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B5CA79-5E35-42AE-B115-BA6F83E2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219B6-7EAA-4B5E-A8CF-E59D85E3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1764F2-144E-4153-9897-AF28528E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D7C0F0-0A76-4C4C-9774-6E46BBDB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CC2617-EE54-4482-9A5F-224FD34591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53ABA7-8C10-42D5-A808-46C82A35C9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1BF187-8A80-41F0-BDEA-6406A91F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957E73-8864-457A-9F14-56E4ED27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957E9A-E95F-4426-B162-4A29C5A5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A18270-6DDE-4378-AF78-87AD0B6FC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92E895-CF03-41C8-9263-28402AC56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58D827-616F-460D-9DA4-5F8D6A83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85FD7-8867-40DE-9D4A-2B78D055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ACD31B-1C38-4BCE-9261-3A776724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F65A1F-7D67-4293-B60B-C192CACE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549618-F102-4B82-8D55-42F973AF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919A8A-5439-4E0B-B2DE-0D38B1A9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6B3F39-AE5A-491D-A085-6E6DACA4D0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0DCEA-6142-4C04-97FF-93F68DD79A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FBDE3-29D8-4C26-BB55-87CF7CAE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FE5E97-6C64-4E23-9614-CB5BCEC9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EE6A1B-40EC-4A3B-8FF9-E201E82C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E35A28-BAA0-44B5-90A8-9620E6ABE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C5D3D-0A20-4BDC-94CF-512A472B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E9188-F3FD-4F70-80B6-3517B4132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D60D5-BB4D-41C6-A59D-08D23989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3489DF-ABAA-4C38-A7ED-61A30D03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EF54A-3EC9-43D1-8286-12ECCCEC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B8848-4C22-4545-9A10-852DCDEE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18146-68B7-4058-954D-D3A83382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1EBB3A-6EB2-440F-B123-A84C1AE70D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09C1B-B189-4A1F-97EE-23EDC5C33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C4B1E-D67A-40F5-AEBF-77468806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86622-A3C6-4032-B586-08B52206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AA666-83EC-4AB3-9ECC-E50F7141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0F0B1-6BCF-4B81-875E-DABCB485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3CBF2-07F5-46BC-8F08-0F0867F8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79994-E19B-47CC-9409-115285A2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D15AD-7FCD-446F-8384-D7E3C94B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5A3C3-A3EA-43D9-9DAC-016EF270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42DFD-AFE6-41AE-B59A-F19799EA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04BCA-4E00-41D6-A6AC-6FE0B7F7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E4A85-CEF1-4EE5-89AD-1407EF616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B1BE5-A258-4952-BAB7-BA8604B13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F752F8-1510-4960-942C-41C1F9037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35D35-5F7F-44B3-81C2-FBE75724B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35BBA8-D006-46B4-9504-22AD14D0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43D2CD-8C70-4324-A611-39238781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366432-9804-4E74-B6BC-9E92EAD6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DCA03B-99DA-4637-90F6-E9782D61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0AF7ED-4D40-4D02-8E53-6A52CEB0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62A1CE-5EB9-453D-876E-6140200B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F08062-F67A-498F-8068-03B11A30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D7AEA0-B93C-498D-8149-FD1D5556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8FFDF7-70C1-4D86-95D6-7D91371D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E6C37C-221D-488F-92F7-5B38036C4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27DA9-D129-4630-9F36-F1FF5C15A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38C3D3-D465-477C-9E9D-BC0B7E0A8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E51C6B-BE05-4653-86A7-8131AA12C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B247AD-9FE2-4259-BC38-96EB9857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D120AE-3A3D-4E17-B6F7-0E8E992E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F7F536-7783-43D5-98B3-CB5EC78A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D36507-AF80-405C-9284-48287473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D29A5C-84AB-4CDB-95CC-9C66C25F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CA2E6E-04F2-479A-B71B-ADEA8551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6DF32A-65A1-4DB3-8BF6-FB40AE33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5321E1-21A6-41F8-B085-4C74FA24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658988-4596-4AD7-A832-719E91001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1014F7-64FE-4D37-BC38-1C0F82BB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F4879A-C7DD-48AB-B6A1-AF9FFAE1C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8F287A-6034-459D-A55F-AC843A26D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1D6344-E12E-4829-BB8B-D36B2A450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A87420-15AF-4713-AF42-5CA598E6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72A1D6-C1B7-4679-9576-D1B0B2CB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8A8B10-3F0B-4570-890A-BE1EA0C1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9EC309-1517-4172-B3E8-722BBF48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A157ED-006E-4165-82C7-E0302066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FC465F-40EA-4171-9653-08FF2D4A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6A876F-328D-43BF-B369-B6BA5D76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823572-E2A8-4CF2-BABF-954A6295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29B500-7C08-4AEC-8A09-DEA1E650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BC3B9C-FF48-49A8-A0D2-D58F0CCD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1431E9-F22E-47C4-A7AC-E0420627D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07E9FB-4CFC-4AD6-9FF5-4D0E9BCA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664BEC-7089-414E-B7DB-8C89F245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6D7D54-5D21-48F5-900C-CFFFAF59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04CDD6-85A0-4B06-8DDE-92603A35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49FFCA-8304-4BFA-BA55-C17B4D27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3BED00-3882-437B-A795-895AEA03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3179CB-BFD1-4F97-BA5F-C59D3C3D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A81B57-540F-411D-B4A1-55CE9E67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8EC921-10DE-4936-A1CE-50D70C0D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DC995F-CD0D-4003-8B73-71CA1F57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E21396-86ED-422B-9D66-669389DA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5759DC-47BA-47A0-AC02-431987DA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B27E58-307A-45D7-AE70-4116D7832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7716FE-CBF4-45BB-B505-748C00343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E92E84-AA3F-4140-806A-94B22F416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41DE99-25FD-46A5-8702-860077E8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66CE15-B811-4765-851A-AE9D8FE6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9DA86F-475F-40C0-AC5B-F0E5D73A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066298-0C5E-470F-AF19-9A71A914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5CC5A9-F4CA-4951-B30C-861E7D0A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980980-DA56-4D9F-A98D-0ED227BB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4DF415-85E8-4A5E-B810-8D46DF7C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CFF15F-7BEE-40D8-B50E-A60148D5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855747-A6CC-43D1-8ABF-63243BA0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AFE1EB-8274-42EA-A29E-F02A4860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743C9B-DD4B-4CE5-BBE5-D89352EDC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81E4B5-C1E4-4986-8635-E622CAD60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6ED365-7241-47CD-8716-DF46EC480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455560-271C-4684-83FE-FF65F2F1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634709-D23F-47BC-A528-5C66CEE4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6C7344-EB69-4A79-AF6A-489DD77C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5D59A4-4328-4448-81B4-3A483CB7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48A9A6-238E-466A-8789-3226FD51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4280E1-CDAC-4C0A-B148-58742168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ABA746-BC8A-477B-B223-B031A756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930B6C-8AB7-499C-9E1B-2F0D1CBF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36F7FB-BB99-43E6-8DE6-8EBB1BFD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DDD54B-2283-4E5B-8CE2-6D929080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C3471A-410F-4276-8010-B653D4E5B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A6532A-284B-49D9-9226-55113778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3E348A-3DF2-454F-96DC-5437C759A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B5CAE0-5632-44C3-B536-C36803E3D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59EA74-6AB2-41DA-B407-2AEE16C1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F65140-41E3-41FE-A776-2664E2E6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37826C-E8AE-4BB4-8003-01B536E2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3D6B5F-2F2A-4591-A23D-CAE8585F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25E448-D395-4BD5-9C7A-7996B87F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DFF81F-9C65-4C07-8DE9-7DF8B6D7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E8501A-A2F6-4BE1-AAF1-4EC1916E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9E660A-C7AB-4B22-98D3-3350FF35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BAC005-F304-40AE-8A09-43EAC2D3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2E750D-D5F2-4DC9-88D2-E33C9185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671488-D0BE-4EBD-B48F-5453AB6AC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BC0C7A-1969-4DFC-9629-65DDEFBB4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A84D28-B099-4158-93C9-3AE3A7475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567988-7DF7-4167-80EB-01AE525A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6C72C7-5131-40BB-899C-A93DD593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98A9F9-A1A8-4462-B65D-1C86275A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621A5D-153E-4E8B-8C11-2094FC80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6CDD91-FE19-42F6-ADD5-798B4469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4EDB7A-8723-41F3-B057-ECA23D01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4778F6-3C48-413B-A6AC-5C81CF04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187DAE-D5FF-436A-99E7-B7887A89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113EB6-FB1E-4798-9D10-34E03548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DB3C98-FE73-458A-AD2C-614BDD4A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9D2DC7-87E0-4F4E-923A-76C10AE91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FC2089-C195-4495-8B08-24318415F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CEF3DA-9A03-401B-BE73-50217D0CB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FCD8C4-196E-4D85-8593-41699AA8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D67A69-157C-479A-879B-CFCCEF58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FE4F92-378E-478E-9E2C-DD38C357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A20304-43BE-48BC-8244-79E86E52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D986BC-CB72-429F-B09C-A7371EDB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7E80C3-B207-4284-92FD-29057E16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FBD2F8-1B3E-4373-ADE7-8F456CEC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3AFC4C-B549-4EAB-AEF9-37CC0C36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6D5D7F-17AC-476F-BC61-F1BE2205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1CA97F-4DF7-4A38-8F7C-18C1BAB8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A7848C-B021-4327-93D7-AC8EF7A3E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CA31A4-86AD-4813-BDA5-2D8C6CF88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4B979E-AF57-4A95-9E24-115938D7D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A50C0D-BCD8-4B25-B0D9-EED5C503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9624D7-614C-4D6D-9EF4-F276ECFE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BE9456-EA01-4146-81AB-A9527BD9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D3E969-D00F-4447-8D5C-73C463D6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AEDC83-41FD-4942-9B82-C4ED488E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326F02-4104-42DF-8807-9D03F64E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6E4C66-681B-485E-9A3B-98EB34C4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218EFC-8E5E-40B3-B467-04A44F40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909DA8-2E57-46E9-AB75-5CA68AA6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1F84C2-0B9B-4C2C-967E-2BC0CEF5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E8E8A8-A8A3-4A35-92D6-2F4D0344E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408081-9107-4073-AA83-0655221E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0FE57A-3C08-4CD6-B629-4CF576D44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21CD4E-30A0-46BF-96AA-A9A0E9F39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9780C9-C47F-4963-AF98-FA965FB6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F967C2-044F-435B-BA4C-F8C6B370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0AFFEB-9BD0-41D8-A766-D006CC6A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7C0237-27FA-4CA2-A59A-4CD4587B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9A39F0-9B45-42E3-A64C-1E0E5136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3A8CEB-C8D6-4AB8-919F-4DC024F3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7C3367-3C90-40C9-A90A-43547CAE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92FFD0-825B-4575-B7BA-361699E8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F56548-B202-4E05-9FC2-B5E0131F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0A1F81-8D2F-42C6-BF36-10ECF7CD4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F92794-8194-456F-8AF0-F0C094424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DE2AC3-3A3F-4462-9465-BC605736E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7573B8-CB41-4DA7-ACB4-399D8765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C68D24-5216-4536-AD85-AE6375B0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F30B22-F951-4A67-B508-5896CAAC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282675-2834-427F-8682-1CBDE9DE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DB45FF-3B8E-419A-90B4-01AEC4C8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186FDA-07F3-4A37-8DAE-8F8744E9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89EB7F-E7BB-4AAD-AB58-E46CEF94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14A274-6C75-482E-9CA7-F11AB70D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66DA14-926C-4A2A-960E-74010C30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EC3139-8422-473C-9262-7463D811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8F8439-D5E8-4795-A607-91B801514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17C638-C6DA-4B90-BE1E-0B31B14A3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568CFC-325B-4D54-8E49-07936D392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FF2E0D-6C79-46C1-90A4-AB2C8BBD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8293D6-C17E-4E88-9666-40C5EA99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2746DD-2E47-4745-AB6B-665CA807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4AA586-DFEA-43BA-B3C2-E421E1E8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F7FF35-0F12-498A-B52E-9DC99073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B05A38-374F-46AE-9E12-3EA237AE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31F6A8-509B-4240-8197-B38340F0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6F9970-DB31-43D4-8ADE-C9764B89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7B40D2-47FB-459A-ADB5-66CAE367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D8D7B2-7DF6-4391-86B1-1989E47B4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0E4253-DC92-4E8C-98FE-4FB5ABF10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D5C3B9-0B7A-420F-A6BA-08B494076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9EE7AF-C5D2-4C3A-861A-43BFC779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66455E-22F4-45E7-BC37-D50DB0EB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7AE987A-BF39-4EC4-B844-C089EDD0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23D953-2639-4AAB-B7B8-9130EAA3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370025-C316-41C5-B5E7-49701570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191FF1-5D99-4FA1-9FA0-96D26764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FD42C5-FA0B-4A79-B625-63517719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3752DD-A8DA-49C0-B8E6-3F716589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3D3C22-DE8C-435E-B566-C9D1EC6C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D81F690-7550-42CB-A1DF-92FC80017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464094-13C7-4553-8FF0-1E2C1120F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7A27D06-04CB-4FAB-8676-5EDD25968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03FCF81-EC04-4726-8836-6D46DB62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2BC727C-7106-421F-B17C-130696C1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A516043-2C2D-4409-982B-6C950556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5823CFB-F74D-4A77-A74E-AC88A2FC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8659D5C-8E2B-483C-9572-09E4196A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1EAF5A4-A4FA-4DE6-942B-DFFD96A5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BCEF8C5-D3C0-48E5-9FB4-A266015F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6AD106B-5244-434B-8EC0-0AA87024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C9DF05A-EEAC-48A5-851A-51047BEC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90DB964-141E-4A3C-9866-F8F45CCD6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CA475CC-3829-4EB9-B9CB-C970B0CCA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0B7CB65-79C1-4F6C-A3A9-3DA532DCA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54185E4-C1B1-42EC-B6BB-5B11C4E1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8EC5E16-633A-4851-980E-17FA442F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4D22D4-8751-4F2D-A72E-D72072E7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4AF704F-68FB-4680-AB4B-AD37D2C8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57F113E-BA50-49F4-8F03-A1F992DF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A7B75E4-7D58-433B-A935-E0FB2E02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B8A0B60-B878-4A90-8201-CF51D07A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865614-343C-4A7C-80EF-AB0F0C09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B6D8FEE-0155-44D9-95E4-73A23FFB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2A83F1B-CBEC-4C83-ABBC-DBE9A031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7563B83-08CD-48E7-A52C-036AE5454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BEA2519-2631-483A-9A64-18BE11F17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AE8D68F-CFBD-4F58-87C7-FA7F33AD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1021D88-EAB6-48DB-B88D-7FC8564C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AFEB155-14F7-49C7-A3E8-A20AC838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4251B27-C3BD-4A53-98E1-2B5C597A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7D65630-885E-4ACD-BA91-50C2C0E2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669D58C-2CBC-4B3D-8468-6A6ACB39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557EB58-4754-4B00-95DF-02863434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B2F077-E501-4A37-9AD4-6895D12C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D97329C-0BAB-4C65-9608-A9DF864B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3CE64E1-4C9F-46CB-B291-AFC75A28E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B6D72B5-26F4-4DDE-A96D-779078483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BB0B53D-3E6D-4346-98B4-BD820FE7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0745685-45B8-4989-A8B0-31523B6E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5E15720-1DF0-40C0-B24D-99967D19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C7DCC49-D381-4067-B3B2-89131789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F75308B-1F23-4B02-B7C1-3AD67429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1337D50-87EA-46D2-9414-0EBDFC53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A545B9B-1BE0-42B0-8FB1-A749C05A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AAAFFF3-384C-4917-8048-F49FB68A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3FC999C-9B1E-4D48-9465-BE5F1E6D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1E226D0-6B78-413A-8113-E4E6C941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353F46D-C013-48B1-A3AD-5E73AA17D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A0B3AC9-950A-4AED-82F5-5C6DA1E8E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794ECE3-28CC-4CE6-9968-CC9FF2A8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C82F3AE-E790-40DD-A2E7-FB566B73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2D9834A-6D6B-4E4E-ADAD-F75C60FB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E54358A-DA91-400F-BC66-47CE4E13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32D3D92-5301-4D3D-93B8-9193EB40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2DD0320-FF7A-4085-92EA-B9C06B2F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935E124-ED2E-46A2-90BC-127FE1ED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12455CF-9132-494B-8F18-F2B5F337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85FE348-1A05-4488-B97D-A526FB60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9F786EF-4508-4D4B-8B50-CA22A165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8973168-2F38-431C-AF2D-3EC6321F2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477D4D6-A044-44ED-89CE-A3D7D99E5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F5F7F7D-9400-477D-B463-D49B14153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51B4CB1-6C9F-4E7C-9808-D3328DA3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B1BC511-5077-452A-A4BD-55997726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AB404FE-86AC-47BE-8519-8B613BC3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0E4CC98-8698-4521-A142-C4B1244D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2A1DEF9-50A5-425A-ADF1-F6C7D1EA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AE66F14-E34A-4080-89E8-D2BEC31F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FABADE6-CEBE-4244-B69B-405DEA3A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544A529-FF97-4A08-90E2-F4E33602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BA729BA-5C06-4987-AF01-91FA5F29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C0BF516-C49C-4A5F-9557-6F7389F5D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05F0E09-5C37-44ED-A3EE-9C892E054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8075154-D403-46BD-B1A8-025F7C57E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0CBAC68-1957-4FFE-9F3F-3BEA1A1D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EBA024A-6EE4-4810-BD37-7EA2F4CA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9CCB16C-633F-451D-BF29-529A8D77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9A9F7B9-ABC5-46F4-ABF1-41F832EF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F2034E0-BE4D-408A-9EF9-B068FC4B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22CDDA3-97F3-4E9E-A205-9D621D4E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03B0BDB-00B4-4997-99A9-4B4E8CF0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C5997A4-78A2-4A91-A3AF-5ECD7892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66B27B6-8F71-4E96-B06F-1C8C077C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24AEBC9-9A08-44CE-97B1-FF94C20E7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ABE3DC1-09C8-4FE6-9073-4A961EF93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../../../&#30446;&#24405;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100801">
            <a:hlinkClick r:id="rId3"/>
          </p:cNvPr>
          <p:cNvSpPr/>
          <p:nvPr/>
        </p:nvSpPr>
        <p:spPr>
          <a:xfrm>
            <a:off x="1660680" y="208080"/>
            <a:ext cx="1049040" cy="32220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矩形 1101825">
            <a:hlinkClick r:id="" action="ppaction://hlinkshowjump?jump=firstslide"/>
          </p:cNvPr>
          <p:cNvSpPr/>
          <p:nvPr/>
        </p:nvSpPr>
        <p:spPr>
          <a:xfrm>
            <a:off x="1684440" y="230040"/>
            <a:ext cx="1030320" cy="28584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38" name="图片 1101851" descr="探究"/>
          <p:cNvPicPr/>
          <p:nvPr/>
        </p:nvPicPr>
        <p:blipFill>
          <a:blip r:embed="rId3"/>
          <a:srcRect l="0" t="0" r="27946" b="3073"/>
          <a:stretch/>
        </p:blipFill>
        <p:spPr>
          <a:xfrm>
            <a:off x="3171960" y="230040"/>
            <a:ext cx="847440" cy="295560"/>
          </a:xfrm>
          <a:prstGeom prst="rect">
            <a:avLst/>
          </a:prstGeom>
          <a:ln w="0">
            <a:noFill/>
          </a:ln>
        </p:spPr>
      </p:pic>
      <p:pic>
        <p:nvPicPr>
          <p:cNvPr id="39" name="图片 1101852" descr="难题"/>
          <p:cNvPicPr/>
          <p:nvPr/>
        </p:nvPicPr>
        <p:blipFill>
          <a:blip r:embed="rId4"/>
          <a:srcRect l="0" t="0" r="27486" b="6265"/>
          <a:stretch/>
        </p:blipFill>
        <p:spPr>
          <a:xfrm>
            <a:off x="4238640" y="219240"/>
            <a:ext cx="866880" cy="285480"/>
          </a:xfrm>
          <a:prstGeom prst="rect">
            <a:avLst/>
          </a:prstGeom>
          <a:ln w="0">
            <a:noFill/>
          </a:ln>
        </p:spPr>
      </p:pic>
      <p:pic>
        <p:nvPicPr>
          <p:cNvPr id="40" name="图片 1101853" descr="拓展"/>
          <p:cNvPicPr/>
          <p:nvPr/>
        </p:nvPicPr>
        <p:blipFill>
          <a:blip r:embed="rId5"/>
          <a:srcRect l="0" t="0" r="23756" b="0"/>
          <a:stretch/>
        </p:blipFill>
        <p:spPr>
          <a:xfrm>
            <a:off x="5326200" y="217440"/>
            <a:ext cx="855360" cy="304920"/>
          </a:xfrm>
          <a:prstGeom prst="rect">
            <a:avLst/>
          </a:prstGeom>
          <a:ln w="0">
            <a:noFill/>
          </a:ln>
        </p:spPr>
      </p:pic>
      <p:pic>
        <p:nvPicPr>
          <p:cNvPr id="41" name="图片 1101854" descr="巩固"/>
          <p:cNvPicPr/>
          <p:nvPr/>
        </p:nvPicPr>
        <p:blipFill>
          <a:blip r:embed="rId6"/>
          <a:srcRect l="0" t="0" r="7746" b="3664"/>
          <a:stretch/>
        </p:blipFill>
        <p:spPr>
          <a:xfrm>
            <a:off x="6402240" y="219240"/>
            <a:ext cx="849600" cy="2934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101855" descr="总结"/>
          <p:cNvPicPr/>
          <p:nvPr/>
        </p:nvPicPr>
        <p:blipFill>
          <a:blip r:embed="rId7"/>
          <a:stretch/>
        </p:blipFill>
        <p:spPr>
          <a:xfrm>
            <a:off x="7472520" y="219240"/>
            <a:ext cx="920520" cy="30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 type="dt" idx="9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 type="sldNum" idx="10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457D-0C11-44A0-A5A3-7AEB7C81CC5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dt" idx="11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 type="sldNum" idx="12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9F19-FAC3-4BFE-898D-9E2289BF8B3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809640"/>
          </a:xfrm>
          <a:prstGeom prst="rect">
            <a:avLst/>
          </a:prstGeom>
          <a:ln w="0">
            <a:noFill/>
          </a:ln>
        </p:spPr>
      </p:pic>
      <p:grpSp>
        <p:nvGrpSpPr>
          <p:cNvPr id="80" name="组合 25602"/>
          <p:cNvGrpSpPr/>
          <p:nvPr/>
        </p:nvGrpSpPr>
        <p:grpSpPr>
          <a:xfrm>
            <a:off x="610920" y="4416480"/>
            <a:ext cx="7615440" cy="920160"/>
            <a:chOff x="610920" y="4416480"/>
            <a:chExt cx="7615440" cy="920160"/>
          </a:xfrm>
        </p:grpSpPr>
        <p:sp>
          <p:nvSpPr>
            <p:cNvPr id="81" name="椭圆 25603"/>
            <p:cNvSpPr/>
            <p:nvPr/>
          </p:nvSpPr>
          <p:spPr>
            <a:xfrm flipH="1">
              <a:off x="4407840" y="4416480"/>
              <a:ext cx="1104840" cy="91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82" name="椭圆 25604"/>
            <p:cNvSpPr/>
            <p:nvPr/>
          </p:nvSpPr>
          <p:spPr>
            <a:xfrm flipH="1">
              <a:off x="7123320" y="4416480"/>
              <a:ext cx="1103040" cy="91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83" name="椭圆 25605"/>
            <p:cNvSpPr/>
            <p:nvPr/>
          </p:nvSpPr>
          <p:spPr>
            <a:xfrm flipH="1">
              <a:off x="610560" y="4417560"/>
              <a:ext cx="1103400" cy="91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84" name="椭圆 25606"/>
            <p:cNvSpPr/>
            <p:nvPr/>
          </p:nvSpPr>
          <p:spPr>
            <a:xfrm flipH="1">
              <a:off x="5863680" y="4416480"/>
              <a:ext cx="1103400" cy="9190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85" name="椭圆 25607"/>
            <p:cNvSpPr/>
            <p:nvPr/>
          </p:nvSpPr>
          <p:spPr>
            <a:xfrm flipH="1">
              <a:off x="1897920" y="4416480"/>
              <a:ext cx="1103400" cy="9190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2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12BA-B9CC-41B2-8696-760D8D3F258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 type="dt" idx="13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 type="sldNum" idx="14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459A-873D-4B17-B4DB-E4895350E60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15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sldNum" idx="16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10A3-020F-4EC4-ABFC-8721820C522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 type="dt" idx="17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 type="sldNum" idx="18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43F6-4B50-42C6-BBBC-6C9E720074E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 type="dt" idx="19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 type="sldNum" idx="20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D738-5457-4F3A-BF22-2A8CA3905F0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 type="dt" idx="21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 type="sldNum" idx="22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FD74-422F-4A62-8A9C-7795A1A3FAA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 type="dt" idx="23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 type="sldNum" idx="24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74F4-7310-47D0-B0E2-FD4F2656C23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 type="dt" idx="25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 type="sldNum" idx="26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FA0E-5E19-48FD-BAAA-CE184F1AFA7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 type="dt" idx="27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 type="sldNum" idx="28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1BCA-1B53-4258-B39C-F634A083FEC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 type="dt" idx="29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 type="sldNum" idx="30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5034-C2E0-4019-A87C-0BE18B2F250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 type="dt" idx="31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 type="ftr" idx="32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8" name="PlaceHolder 5"/>
          <p:cNvSpPr>
            <a:spLocks noGrp="1"/>
          </p:cNvSpPr>
          <p:nvPr>
            <p:ph type="sldNum" idx="33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6293-82AE-491E-920A-73CDA1C0195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809640"/>
          </a:xfrm>
          <a:prstGeom prst="rect">
            <a:avLst/>
          </a:prstGeom>
          <a:ln w="0">
            <a:noFill/>
          </a:ln>
        </p:spPr>
      </p:pic>
      <p:grpSp>
        <p:nvGrpSpPr>
          <p:cNvPr id="127" name="组合 25602"/>
          <p:cNvGrpSpPr/>
          <p:nvPr/>
        </p:nvGrpSpPr>
        <p:grpSpPr>
          <a:xfrm>
            <a:off x="610920" y="4416480"/>
            <a:ext cx="7615440" cy="920160"/>
            <a:chOff x="610920" y="4416480"/>
            <a:chExt cx="7615440" cy="920160"/>
          </a:xfrm>
        </p:grpSpPr>
        <p:sp>
          <p:nvSpPr>
            <p:cNvPr id="128" name="椭圆 25603"/>
            <p:cNvSpPr/>
            <p:nvPr/>
          </p:nvSpPr>
          <p:spPr>
            <a:xfrm flipH="1">
              <a:off x="4407840" y="4416480"/>
              <a:ext cx="1104840" cy="91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29" name="椭圆 25604"/>
            <p:cNvSpPr/>
            <p:nvPr/>
          </p:nvSpPr>
          <p:spPr>
            <a:xfrm flipH="1">
              <a:off x="7123320" y="4416480"/>
              <a:ext cx="1103040" cy="91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0" name="椭圆 25605"/>
            <p:cNvSpPr/>
            <p:nvPr/>
          </p:nvSpPr>
          <p:spPr>
            <a:xfrm flipH="1">
              <a:off x="610560" y="4417560"/>
              <a:ext cx="1103400" cy="91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1" name="椭圆 25606"/>
            <p:cNvSpPr/>
            <p:nvPr/>
          </p:nvSpPr>
          <p:spPr>
            <a:xfrm flipH="1">
              <a:off x="5863680" y="4416480"/>
              <a:ext cx="1103400" cy="9190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2" name="椭圆 25607"/>
            <p:cNvSpPr/>
            <p:nvPr/>
          </p:nvSpPr>
          <p:spPr>
            <a:xfrm flipH="1">
              <a:off x="1897920" y="4416480"/>
              <a:ext cx="1103400" cy="9190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3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4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5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BAB5-9F8A-449D-BB4A-4A89C06414B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 type="dt" idx="34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 type="ftr" idx="35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 type="sldNum" idx="36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5A32-DDD9-4B27-9EB8-F57700547E6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 type="dt" idx="37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 type="ftr" idx="38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 type="sldNum" idx="39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EECC-DF4E-4E38-9162-D82E7ADF47D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 type="dt" idx="40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 type="ftr" idx="41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 type="sldNum" idx="42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8818-A183-48AE-B340-336D42DFC63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 type="dt" idx="43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 type="ftr" idx="44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22" name="PlaceHolder 5"/>
          <p:cNvSpPr>
            <a:spLocks noGrp="1"/>
          </p:cNvSpPr>
          <p:nvPr>
            <p:ph type="sldNum" idx="45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3CAC-F83A-4F2D-B2CA-9396DA3CE59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 type="dt" idx="46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 type="ftr" idx="47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63" name="PlaceHolder 5"/>
          <p:cNvSpPr>
            <a:spLocks noGrp="1"/>
          </p:cNvSpPr>
          <p:nvPr>
            <p:ph type="sldNum" idx="48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4C64-744C-4E05-84DC-D4A3491A3A1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 type="dt" idx="49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 type="ftr" idx="50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04" name="PlaceHolder 5"/>
          <p:cNvSpPr>
            <a:spLocks noGrp="1"/>
          </p:cNvSpPr>
          <p:nvPr>
            <p:ph type="sldNum" idx="51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3DD8-47FC-40C3-A28C-C54BBD0F2AB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 type="dt" idx="52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 type="ftr" idx="53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5" name="PlaceHolder 5"/>
          <p:cNvSpPr>
            <a:spLocks noGrp="1"/>
          </p:cNvSpPr>
          <p:nvPr>
            <p:ph type="sldNum" idx="54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88A2-E7F7-4CB1-85DF-13C0EB19378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 type="dt" idx="55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 type="ftr" idx="56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86" name="PlaceHolder 5"/>
          <p:cNvSpPr>
            <a:spLocks noGrp="1"/>
          </p:cNvSpPr>
          <p:nvPr>
            <p:ph type="sldNum" idx="57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6461-B102-48F1-9D91-896BE017743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 type="dt" idx="58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 type="ftr" idx="59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27" name="PlaceHolder 5"/>
          <p:cNvSpPr>
            <a:spLocks noGrp="1"/>
          </p:cNvSpPr>
          <p:nvPr>
            <p:ph type="sldNum" idx="60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B197-4646-45AF-9BA9-C5BFA89E22A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 type="dt" idx="61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 type="ftr" idx="62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 type="sldNum" idx="63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5BE6-0E77-4564-9428-F2B3CBC6475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809640"/>
          </a:xfrm>
          <a:prstGeom prst="rect">
            <a:avLst/>
          </a:prstGeom>
          <a:ln w="0">
            <a:noFill/>
          </a:ln>
        </p:spPr>
      </p:pic>
      <p:grpSp>
        <p:nvGrpSpPr>
          <p:cNvPr id="175" name="组合 25602"/>
          <p:cNvGrpSpPr/>
          <p:nvPr/>
        </p:nvGrpSpPr>
        <p:grpSpPr>
          <a:xfrm>
            <a:off x="610920" y="4416480"/>
            <a:ext cx="7615440" cy="920160"/>
            <a:chOff x="610920" y="4416480"/>
            <a:chExt cx="7615440" cy="920160"/>
          </a:xfrm>
        </p:grpSpPr>
        <p:sp>
          <p:nvSpPr>
            <p:cNvPr id="176" name="椭圆 25603"/>
            <p:cNvSpPr/>
            <p:nvPr/>
          </p:nvSpPr>
          <p:spPr>
            <a:xfrm flipH="1">
              <a:off x="4407840" y="4416480"/>
              <a:ext cx="1104840" cy="91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77" name="椭圆 25604"/>
            <p:cNvSpPr/>
            <p:nvPr/>
          </p:nvSpPr>
          <p:spPr>
            <a:xfrm flipH="1">
              <a:off x="7123320" y="4416480"/>
              <a:ext cx="1103040" cy="91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78" name="椭圆 25605"/>
            <p:cNvSpPr/>
            <p:nvPr/>
          </p:nvSpPr>
          <p:spPr>
            <a:xfrm flipH="1">
              <a:off x="610560" y="4417560"/>
              <a:ext cx="1103400" cy="91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79" name="椭圆 25606"/>
            <p:cNvSpPr/>
            <p:nvPr/>
          </p:nvSpPr>
          <p:spPr>
            <a:xfrm flipH="1">
              <a:off x="5863680" y="4416480"/>
              <a:ext cx="1103400" cy="9190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80" name="椭圆 25607"/>
            <p:cNvSpPr/>
            <p:nvPr/>
          </p:nvSpPr>
          <p:spPr>
            <a:xfrm flipH="1">
              <a:off x="1897920" y="4416480"/>
              <a:ext cx="1103400" cy="9190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6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7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8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9476-3364-4D4B-8FB9-04E973D3434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 type="dt" idx="64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 type="ftr" idx="65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9" name="PlaceHolder 5"/>
          <p:cNvSpPr>
            <a:spLocks noGrp="1"/>
          </p:cNvSpPr>
          <p:nvPr>
            <p:ph type="sldNum" idx="66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0A9D-D9B8-4803-A6F1-03BF9ADD876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 type="dt" idx="67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49" name="PlaceHolder 4"/>
          <p:cNvSpPr>
            <a:spLocks noGrp="1"/>
          </p:cNvSpPr>
          <p:nvPr>
            <p:ph type="ftr" idx="68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0" name="PlaceHolder 5"/>
          <p:cNvSpPr>
            <a:spLocks noGrp="1"/>
          </p:cNvSpPr>
          <p:nvPr>
            <p:ph type="sldNum" idx="69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DB63-28C7-4E6F-8DC1-A8EEB257AE1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 type="dt" idx="70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 type="ftr" idx="71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1" name="PlaceHolder 5"/>
          <p:cNvSpPr>
            <a:spLocks noGrp="1"/>
          </p:cNvSpPr>
          <p:nvPr>
            <p:ph type="sldNum" idx="72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DE4D-1181-4F36-AE99-AD04D04F4E3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 type="dt" idx="73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 type="ftr" idx="74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2" name="PlaceHolder 5"/>
          <p:cNvSpPr>
            <a:spLocks noGrp="1"/>
          </p:cNvSpPr>
          <p:nvPr>
            <p:ph type="sldNum" idx="75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2E4D-816A-4ADA-8B01-B65EDA58130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3"/>
          <p:cNvSpPr>
            <a:spLocks noGrp="1"/>
          </p:cNvSpPr>
          <p:nvPr>
            <p:ph type="dt" idx="76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2" name="PlaceHolder 4"/>
          <p:cNvSpPr>
            <a:spLocks noGrp="1"/>
          </p:cNvSpPr>
          <p:nvPr>
            <p:ph type="ftr" idx="77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3" name="PlaceHolder 5"/>
          <p:cNvSpPr>
            <a:spLocks noGrp="1"/>
          </p:cNvSpPr>
          <p:nvPr>
            <p:ph type="sldNum" idx="78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3574-C940-477E-B3A2-E0204E64491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 type="dt" idx="79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3" name="PlaceHolder 4"/>
          <p:cNvSpPr>
            <a:spLocks noGrp="1"/>
          </p:cNvSpPr>
          <p:nvPr>
            <p:ph type="ftr" idx="80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4" name="PlaceHolder 5"/>
          <p:cNvSpPr>
            <a:spLocks noGrp="1"/>
          </p:cNvSpPr>
          <p:nvPr>
            <p:ph type="sldNum" idx="81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7BF5-AE2F-4013-BFAD-E920CFF41B0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PlaceHolder 3"/>
          <p:cNvSpPr>
            <a:spLocks noGrp="1"/>
          </p:cNvSpPr>
          <p:nvPr>
            <p:ph type="dt" idx="82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4" name="PlaceHolder 4"/>
          <p:cNvSpPr>
            <a:spLocks noGrp="1"/>
          </p:cNvSpPr>
          <p:nvPr>
            <p:ph type="ftr" idx="83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5" name="PlaceHolder 5"/>
          <p:cNvSpPr>
            <a:spLocks noGrp="1"/>
          </p:cNvSpPr>
          <p:nvPr>
            <p:ph type="sldNum" idx="84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1D7A-4F06-4462-9345-9C0BE6CB1F4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 type="dt" idx="85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 type="ftr" idx="86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6" name="PlaceHolder 5"/>
          <p:cNvSpPr>
            <a:spLocks noGrp="1"/>
          </p:cNvSpPr>
          <p:nvPr>
            <p:ph type="sldNum" idx="87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1FED-1BC9-43A9-B049-81B6B629FEA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PlaceHolder 3"/>
          <p:cNvSpPr>
            <a:spLocks noGrp="1"/>
          </p:cNvSpPr>
          <p:nvPr>
            <p:ph type="dt" idx="88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36" name="PlaceHolder 4"/>
          <p:cNvSpPr>
            <a:spLocks noGrp="1"/>
          </p:cNvSpPr>
          <p:nvPr>
            <p:ph type="ftr" idx="89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37" name="PlaceHolder 5"/>
          <p:cNvSpPr>
            <a:spLocks noGrp="1"/>
          </p:cNvSpPr>
          <p:nvPr>
            <p:ph type="sldNum" idx="90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4664-5AFD-451C-8F34-8009BEFA753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3"/>
          <p:cNvSpPr>
            <a:spLocks noGrp="1"/>
          </p:cNvSpPr>
          <p:nvPr>
            <p:ph type="dt" idx="91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7" name="PlaceHolder 4"/>
          <p:cNvSpPr>
            <a:spLocks noGrp="1"/>
          </p:cNvSpPr>
          <p:nvPr>
            <p:ph type="ftr" idx="92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8" name="PlaceHolder 5"/>
          <p:cNvSpPr>
            <a:spLocks noGrp="1"/>
          </p:cNvSpPr>
          <p:nvPr>
            <p:ph type="sldNum" idx="93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521D-01B5-4283-930F-33BC53150ED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PlaceHolder 3"/>
          <p:cNvSpPr>
            <a:spLocks noGrp="1"/>
          </p:cNvSpPr>
          <p:nvPr>
            <p:ph type="dt" idx="94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18" name="PlaceHolder 4"/>
          <p:cNvSpPr>
            <a:spLocks noGrp="1"/>
          </p:cNvSpPr>
          <p:nvPr>
            <p:ph type="ftr" idx="95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19" name="PlaceHolder 5"/>
          <p:cNvSpPr>
            <a:spLocks noGrp="1"/>
          </p:cNvSpPr>
          <p:nvPr>
            <p:ph type="sldNum" idx="96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D7B1-CDC5-48BF-9252-C91281A90EF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6" name="图片 368689" descr=""/>
          <p:cNvPicPr/>
          <p:nvPr/>
        </p:nvPicPr>
        <p:blipFill>
          <a:blip r:embed="rId1"/>
          <a:srcRect l="50950" t="-2048" r="25268" b="0"/>
          <a:stretch/>
        </p:blipFill>
        <p:spPr>
          <a:xfrm>
            <a:off x="4633920" y="2498760"/>
            <a:ext cx="1531800" cy="7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1" name="图片 1230866" descr="72"/>
          <p:cNvPicPr/>
          <p:nvPr/>
        </p:nvPicPr>
        <p:blipFill>
          <a:blip r:embed="rId1"/>
          <a:srcRect l="0" t="13423" r="11580" b="0"/>
          <a:stretch/>
        </p:blipFill>
        <p:spPr>
          <a:xfrm>
            <a:off x="2997360" y="766800"/>
            <a:ext cx="2862000" cy="676080"/>
          </a:xfrm>
          <a:prstGeom prst="rect">
            <a:avLst/>
          </a:prstGeom>
          <a:ln w="0">
            <a:noFill/>
          </a:ln>
        </p:spPr>
      </p:pic>
      <p:pic>
        <p:nvPicPr>
          <p:cNvPr id="2382" name="图片 1230867" descr=""/>
          <p:cNvPicPr/>
          <p:nvPr/>
        </p:nvPicPr>
        <p:blipFill>
          <a:blip r:embed="rId2"/>
          <a:stretch/>
        </p:blipFill>
        <p:spPr>
          <a:xfrm>
            <a:off x="596880" y="1541520"/>
            <a:ext cx="3992760" cy="1065240"/>
          </a:xfrm>
          <a:prstGeom prst="rect">
            <a:avLst/>
          </a:prstGeom>
          <a:ln w="0">
            <a:noFill/>
          </a:ln>
        </p:spPr>
      </p:pic>
      <p:pic>
        <p:nvPicPr>
          <p:cNvPr id="2383" name="图片 1230868" descr=""/>
          <p:cNvPicPr/>
          <p:nvPr/>
        </p:nvPicPr>
        <p:blipFill>
          <a:blip r:embed="rId3"/>
          <a:stretch/>
        </p:blipFill>
        <p:spPr>
          <a:xfrm>
            <a:off x="687240" y="2700360"/>
            <a:ext cx="5573880" cy="269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4" name="图片 1261569" descr=""/>
          <p:cNvPicPr/>
          <p:nvPr/>
        </p:nvPicPr>
        <p:blipFill>
          <a:blip r:embed="rId1"/>
          <a:stretch/>
        </p:blipFill>
        <p:spPr>
          <a:xfrm>
            <a:off x="534960" y="938160"/>
            <a:ext cx="7083360" cy="1629000"/>
          </a:xfrm>
          <a:prstGeom prst="rect">
            <a:avLst/>
          </a:prstGeom>
          <a:ln w="0">
            <a:noFill/>
          </a:ln>
        </p:spPr>
      </p:pic>
      <p:pic>
        <p:nvPicPr>
          <p:cNvPr id="2385" name="图片 1261570" descr=""/>
          <p:cNvPicPr/>
          <p:nvPr/>
        </p:nvPicPr>
        <p:blipFill>
          <a:blip r:embed="rId2"/>
          <a:stretch/>
        </p:blipFill>
        <p:spPr>
          <a:xfrm>
            <a:off x="515880" y="2782800"/>
            <a:ext cx="8023320" cy="212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6" name="图片 1238033" descr="73"/>
          <p:cNvPicPr/>
          <p:nvPr/>
        </p:nvPicPr>
        <p:blipFill>
          <a:blip r:embed="rId1"/>
          <a:srcRect l="0" t="13343" r="11279" b="0"/>
          <a:stretch/>
        </p:blipFill>
        <p:spPr>
          <a:xfrm>
            <a:off x="2986200" y="771480"/>
            <a:ext cx="2871720" cy="671400"/>
          </a:xfrm>
          <a:prstGeom prst="rect">
            <a:avLst/>
          </a:prstGeom>
          <a:ln w="0">
            <a:noFill/>
          </a:ln>
        </p:spPr>
      </p:pic>
      <p:pic>
        <p:nvPicPr>
          <p:cNvPr id="2387" name="图片 1238034" descr=""/>
          <p:cNvPicPr/>
          <p:nvPr/>
        </p:nvPicPr>
        <p:blipFill>
          <a:blip r:embed="rId2"/>
          <a:stretch/>
        </p:blipFill>
        <p:spPr>
          <a:xfrm>
            <a:off x="268200" y="1866960"/>
            <a:ext cx="8607600" cy="19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8" name="图片 1266689" descr=""/>
          <p:cNvPicPr/>
          <p:nvPr/>
        </p:nvPicPr>
        <p:blipFill>
          <a:blip r:embed="rId1"/>
          <a:stretch/>
        </p:blipFill>
        <p:spPr>
          <a:xfrm>
            <a:off x="474840" y="1274760"/>
            <a:ext cx="4682880" cy="243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9" name="图片 1265665" descr=""/>
          <p:cNvPicPr/>
          <p:nvPr/>
        </p:nvPicPr>
        <p:blipFill>
          <a:blip r:embed="rId1"/>
          <a:stretch/>
        </p:blipFill>
        <p:spPr>
          <a:xfrm>
            <a:off x="641520" y="1847880"/>
            <a:ext cx="7860960" cy="2016000"/>
          </a:xfrm>
          <a:prstGeom prst="rect">
            <a:avLst/>
          </a:prstGeom>
          <a:ln w="0">
            <a:noFill/>
          </a:ln>
        </p:spPr>
      </p:pic>
      <p:sp>
        <p:nvSpPr>
          <p:cNvPr id="2390" name="矩形 1265667"/>
          <p:cNvSpPr/>
          <p:nvPr/>
        </p:nvSpPr>
        <p:spPr>
          <a:xfrm>
            <a:off x="822240" y="2724120"/>
            <a:ext cx="4645080" cy="148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1" name="图片 1239060" descr="74"/>
          <p:cNvPicPr/>
          <p:nvPr/>
        </p:nvPicPr>
        <p:blipFill>
          <a:blip r:embed="rId1"/>
          <a:srcRect l="0" t="14622" r="12214" b="0"/>
          <a:stretch/>
        </p:blipFill>
        <p:spPr>
          <a:xfrm>
            <a:off x="2997360" y="787320"/>
            <a:ext cx="2841480" cy="666720"/>
          </a:xfrm>
          <a:prstGeom prst="rect">
            <a:avLst/>
          </a:prstGeom>
          <a:ln w="0">
            <a:noFill/>
          </a:ln>
        </p:spPr>
      </p:pic>
      <p:pic>
        <p:nvPicPr>
          <p:cNvPr id="2392" name="图片 1239061" descr=""/>
          <p:cNvPicPr/>
          <p:nvPr/>
        </p:nvPicPr>
        <p:blipFill>
          <a:blip r:embed="rId2"/>
          <a:stretch/>
        </p:blipFill>
        <p:spPr>
          <a:xfrm>
            <a:off x="816120" y="1428840"/>
            <a:ext cx="6989760" cy="3609720"/>
          </a:xfrm>
          <a:prstGeom prst="rect">
            <a:avLst/>
          </a:prstGeom>
          <a:ln w="0">
            <a:noFill/>
          </a:ln>
        </p:spPr>
      </p:pic>
      <p:sp>
        <p:nvSpPr>
          <p:cNvPr id="2393" name="矩形 1239062"/>
          <p:cNvSpPr/>
          <p:nvPr/>
        </p:nvSpPr>
        <p:spPr>
          <a:xfrm>
            <a:off x="7149960" y="3103560"/>
            <a:ext cx="28440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94" name="矩形 1239063"/>
          <p:cNvSpPr/>
          <p:nvPr/>
        </p:nvSpPr>
        <p:spPr>
          <a:xfrm>
            <a:off x="7161120" y="3524400"/>
            <a:ext cx="420840" cy="41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95" name="矩形 1239064"/>
          <p:cNvSpPr/>
          <p:nvPr/>
        </p:nvSpPr>
        <p:spPr>
          <a:xfrm>
            <a:off x="7140600" y="4008600"/>
            <a:ext cx="420840" cy="41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96" name="矩形 1239065"/>
          <p:cNvSpPr/>
          <p:nvPr/>
        </p:nvSpPr>
        <p:spPr>
          <a:xfrm>
            <a:off x="7118280" y="4586400"/>
            <a:ext cx="420840" cy="41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7" name="图片 1264641" descr=""/>
          <p:cNvPicPr/>
          <p:nvPr/>
        </p:nvPicPr>
        <p:blipFill>
          <a:blip r:embed="rId1"/>
          <a:stretch/>
        </p:blipFill>
        <p:spPr>
          <a:xfrm>
            <a:off x="1343160" y="1589040"/>
            <a:ext cx="6459480" cy="2533680"/>
          </a:xfrm>
          <a:prstGeom prst="rect">
            <a:avLst/>
          </a:prstGeom>
          <a:ln w="0">
            <a:noFill/>
          </a:ln>
        </p:spPr>
      </p:pic>
      <p:sp>
        <p:nvSpPr>
          <p:cNvPr id="2398" name="矩形 1264642"/>
          <p:cNvSpPr/>
          <p:nvPr/>
        </p:nvSpPr>
        <p:spPr>
          <a:xfrm>
            <a:off x="696960" y="2462040"/>
            <a:ext cx="3637080" cy="14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99" name="矩形 1264643"/>
          <p:cNvSpPr/>
          <p:nvPr/>
        </p:nvSpPr>
        <p:spPr>
          <a:xfrm>
            <a:off x="4511520" y="2546280"/>
            <a:ext cx="3637080" cy="14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0" name="图片 1263617" descr=""/>
          <p:cNvPicPr/>
          <p:nvPr/>
        </p:nvPicPr>
        <p:blipFill>
          <a:blip r:embed="rId1"/>
          <a:stretch/>
        </p:blipFill>
        <p:spPr>
          <a:xfrm>
            <a:off x="1514520" y="1665360"/>
            <a:ext cx="6114960" cy="2381040"/>
          </a:xfrm>
          <a:prstGeom prst="rect">
            <a:avLst/>
          </a:prstGeom>
          <a:ln w="0">
            <a:noFill/>
          </a:ln>
        </p:spPr>
      </p:pic>
      <p:sp>
        <p:nvSpPr>
          <p:cNvPr id="2401" name="矩形 1263618"/>
          <p:cNvSpPr/>
          <p:nvPr/>
        </p:nvSpPr>
        <p:spPr>
          <a:xfrm>
            <a:off x="0" y="2093760"/>
            <a:ext cx="5024520" cy="217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02" name="矩形 1263619"/>
          <p:cNvSpPr/>
          <p:nvPr/>
        </p:nvSpPr>
        <p:spPr>
          <a:xfrm>
            <a:off x="4844880" y="2103480"/>
            <a:ext cx="379260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03" name="矩形 1263620"/>
          <p:cNvSpPr/>
          <p:nvPr/>
        </p:nvSpPr>
        <p:spPr>
          <a:xfrm>
            <a:off x="5580000" y="2638440"/>
            <a:ext cx="31622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4" name="图片 1262593" descr=""/>
          <p:cNvPicPr/>
          <p:nvPr/>
        </p:nvPicPr>
        <p:blipFill>
          <a:blip r:embed="rId1"/>
          <a:stretch/>
        </p:blipFill>
        <p:spPr>
          <a:xfrm>
            <a:off x="1235160" y="773280"/>
            <a:ext cx="6238800" cy="4485960"/>
          </a:xfrm>
          <a:prstGeom prst="rect">
            <a:avLst/>
          </a:prstGeom>
          <a:ln w="0">
            <a:noFill/>
          </a:ln>
        </p:spPr>
      </p:pic>
      <p:sp>
        <p:nvSpPr>
          <p:cNvPr id="2405" name="矩形 1262594"/>
          <p:cNvSpPr/>
          <p:nvPr/>
        </p:nvSpPr>
        <p:spPr>
          <a:xfrm>
            <a:off x="1862280" y="4394160"/>
            <a:ext cx="4476600" cy="113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6" name="图片 1248261" descr=""/>
          <p:cNvPicPr/>
          <p:nvPr/>
        </p:nvPicPr>
        <p:blipFill>
          <a:blip r:embed="rId1"/>
          <a:stretch/>
        </p:blipFill>
        <p:spPr>
          <a:xfrm>
            <a:off x="1752480" y="1531800"/>
            <a:ext cx="5639040" cy="2648160"/>
          </a:xfrm>
          <a:prstGeom prst="rect">
            <a:avLst/>
          </a:prstGeom>
          <a:ln w="0">
            <a:noFill/>
          </a:ln>
        </p:spPr>
      </p:pic>
      <p:sp>
        <p:nvSpPr>
          <p:cNvPr id="2407" name="矩形 1248262"/>
          <p:cNvSpPr/>
          <p:nvPr/>
        </p:nvSpPr>
        <p:spPr>
          <a:xfrm>
            <a:off x="1746360" y="3247920"/>
            <a:ext cx="4476600" cy="113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7" name="图片 377064" descr="71"/>
          <p:cNvPicPr/>
          <p:nvPr/>
        </p:nvPicPr>
        <p:blipFill>
          <a:blip r:embed="rId1"/>
          <a:srcRect l="0" t="11993" r="14416" b="0"/>
          <a:stretch/>
        </p:blipFill>
        <p:spPr>
          <a:xfrm>
            <a:off x="2975040" y="755640"/>
            <a:ext cx="2770200" cy="687240"/>
          </a:xfrm>
          <a:prstGeom prst="rect">
            <a:avLst/>
          </a:prstGeom>
          <a:ln w="0">
            <a:noFill/>
          </a:ln>
        </p:spPr>
      </p:pic>
      <p:pic>
        <p:nvPicPr>
          <p:cNvPr id="2358" name="图片 377065" descr=""/>
          <p:cNvPicPr/>
          <p:nvPr/>
        </p:nvPicPr>
        <p:blipFill>
          <a:blip r:embed="rId2"/>
          <a:stretch/>
        </p:blipFill>
        <p:spPr>
          <a:xfrm>
            <a:off x="476280" y="1665360"/>
            <a:ext cx="8191440" cy="23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8" name="图片 1244164" descr=""/>
          <p:cNvPicPr/>
          <p:nvPr/>
        </p:nvPicPr>
        <p:blipFill>
          <a:blip r:embed="rId1"/>
          <a:stretch/>
        </p:blipFill>
        <p:spPr>
          <a:xfrm>
            <a:off x="1123920" y="1465200"/>
            <a:ext cx="6897600" cy="2781360"/>
          </a:xfrm>
          <a:prstGeom prst="rect">
            <a:avLst/>
          </a:prstGeom>
          <a:ln w="0">
            <a:noFill/>
          </a:ln>
        </p:spPr>
      </p:pic>
      <p:sp>
        <p:nvSpPr>
          <p:cNvPr id="2409" name="矩形 1244165"/>
          <p:cNvSpPr/>
          <p:nvPr/>
        </p:nvSpPr>
        <p:spPr>
          <a:xfrm>
            <a:off x="1463760" y="3595680"/>
            <a:ext cx="4476600" cy="113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0" name="图片 1257480" descr="75"/>
          <p:cNvPicPr/>
          <p:nvPr/>
        </p:nvPicPr>
        <p:blipFill>
          <a:blip r:embed="rId1"/>
          <a:srcRect l="0" t="0" r="11958" b="0"/>
          <a:stretch/>
        </p:blipFill>
        <p:spPr>
          <a:xfrm>
            <a:off x="3174840" y="693720"/>
            <a:ext cx="2829240" cy="781200"/>
          </a:xfrm>
          <a:prstGeom prst="rect">
            <a:avLst/>
          </a:prstGeom>
          <a:ln w="0">
            <a:noFill/>
          </a:ln>
        </p:spPr>
      </p:pic>
      <p:sp>
        <p:nvSpPr>
          <p:cNvPr id="2411" name="Rectangle 7"/>
          <p:cNvSpPr/>
          <p:nvPr/>
        </p:nvSpPr>
        <p:spPr>
          <a:xfrm>
            <a:off x="236520" y="2162160"/>
            <a:ext cx="8650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节课你印象最深刻的是什么？通过课堂活动，你有什么体会和收获？和老师、同学交流一下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412" name="Picture 10" descr="C:\Documents and Settings\Administrator\桌面\我上学了副本.jpg"/>
          <p:cNvPicPr/>
          <p:nvPr/>
        </p:nvPicPr>
        <p:blipFill>
          <a:blip r:embed="rId2"/>
          <a:srcRect l="0" t="20452" r="0" b="6364"/>
          <a:stretch/>
        </p:blipFill>
        <p:spPr>
          <a:xfrm>
            <a:off x="5934240" y="3983040"/>
            <a:ext cx="2770200" cy="15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9" name="图片 1240069" descr=""/>
          <p:cNvPicPr/>
          <p:nvPr/>
        </p:nvPicPr>
        <p:blipFill>
          <a:blip r:embed="rId1"/>
          <a:stretch/>
        </p:blipFill>
        <p:spPr>
          <a:xfrm>
            <a:off x="687240" y="1298520"/>
            <a:ext cx="777096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0" name="图片 1255426" descr=""/>
          <p:cNvPicPr/>
          <p:nvPr/>
        </p:nvPicPr>
        <p:blipFill>
          <a:blip r:embed="rId1"/>
          <a:stretch/>
        </p:blipFill>
        <p:spPr>
          <a:xfrm>
            <a:off x="923760" y="1084320"/>
            <a:ext cx="3534120" cy="32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1" name="图片 1254402" descr=""/>
          <p:cNvPicPr/>
          <p:nvPr/>
        </p:nvPicPr>
        <p:blipFill>
          <a:blip r:embed="rId1"/>
          <a:stretch/>
        </p:blipFill>
        <p:spPr>
          <a:xfrm>
            <a:off x="147600" y="847800"/>
            <a:ext cx="8848800" cy="142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2" name="图片 1253378" descr=""/>
          <p:cNvPicPr/>
          <p:nvPr/>
        </p:nvPicPr>
        <p:blipFill>
          <a:blip r:embed="rId1"/>
          <a:stretch/>
        </p:blipFill>
        <p:spPr>
          <a:xfrm>
            <a:off x="133200" y="1728720"/>
            <a:ext cx="8877600" cy="22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3" name="图片 1256458" descr=""/>
          <p:cNvPicPr/>
          <p:nvPr/>
        </p:nvPicPr>
        <p:blipFill>
          <a:blip r:embed="rId1"/>
          <a:stretch/>
        </p:blipFill>
        <p:spPr>
          <a:xfrm>
            <a:off x="0" y="1069920"/>
            <a:ext cx="8818560" cy="34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4" name="图片 1259521" descr=""/>
          <p:cNvPicPr/>
          <p:nvPr/>
        </p:nvPicPr>
        <p:blipFill>
          <a:blip r:embed="rId1"/>
          <a:stretch/>
        </p:blipFill>
        <p:spPr>
          <a:xfrm>
            <a:off x="700200" y="1317600"/>
            <a:ext cx="3876480" cy="28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5" name="图片 1260545" descr=""/>
          <p:cNvPicPr/>
          <p:nvPr/>
        </p:nvPicPr>
        <p:blipFill>
          <a:blip r:embed="rId1"/>
          <a:stretch/>
        </p:blipFill>
        <p:spPr>
          <a:xfrm>
            <a:off x="665280" y="1044720"/>
            <a:ext cx="7813440" cy="3622680"/>
          </a:xfrm>
          <a:prstGeom prst="rect">
            <a:avLst/>
          </a:prstGeom>
          <a:ln w="0">
            <a:noFill/>
          </a:ln>
        </p:spPr>
      </p:pic>
      <p:sp>
        <p:nvSpPr>
          <p:cNvPr id="2366" name="矩形 1260546"/>
          <p:cNvSpPr/>
          <p:nvPr/>
        </p:nvSpPr>
        <p:spPr>
          <a:xfrm>
            <a:off x="3489480" y="2690640"/>
            <a:ext cx="315720" cy="2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67" name="椭圆 1260547"/>
          <p:cNvSpPr/>
          <p:nvPr/>
        </p:nvSpPr>
        <p:spPr>
          <a:xfrm>
            <a:off x="3114720" y="2651040"/>
            <a:ext cx="239760" cy="3128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68" name="矩形 1260548"/>
          <p:cNvSpPr/>
          <p:nvPr/>
        </p:nvSpPr>
        <p:spPr>
          <a:xfrm>
            <a:off x="2406600" y="3195720"/>
            <a:ext cx="316080" cy="2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69" name="椭圆 1260549"/>
          <p:cNvSpPr/>
          <p:nvPr/>
        </p:nvSpPr>
        <p:spPr>
          <a:xfrm>
            <a:off x="2830680" y="3156120"/>
            <a:ext cx="239400" cy="312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70" name="矩形 1260550"/>
          <p:cNvSpPr/>
          <p:nvPr/>
        </p:nvSpPr>
        <p:spPr>
          <a:xfrm>
            <a:off x="3184560" y="3195720"/>
            <a:ext cx="315720" cy="2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71" name="矩形 1260551"/>
          <p:cNvSpPr/>
          <p:nvPr/>
        </p:nvSpPr>
        <p:spPr>
          <a:xfrm>
            <a:off x="2386080" y="3754440"/>
            <a:ext cx="315720" cy="2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72" name="椭圆 1260553"/>
          <p:cNvSpPr/>
          <p:nvPr/>
        </p:nvSpPr>
        <p:spPr>
          <a:xfrm>
            <a:off x="6697800" y="2641680"/>
            <a:ext cx="239400" cy="312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73" name="矩形 1260554"/>
          <p:cNvSpPr/>
          <p:nvPr/>
        </p:nvSpPr>
        <p:spPr>
          <a:xfrm>
            <a:off x="7062840" y="2658960"/>
            <a:ext cx="315720" cy="2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74" name="椭圆 1260555"/>
          <p:cNvSpPr/>
          <p:nvPr/>
        </p:nvSpPr>
        <p:spPr>
          <a:xfrm>
            <a:off x="7748640" y="2641680"/>
            <a:ext cx="239760" cy="312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75" name="矩形 1260556"/>
          <p:cNvSpPr/>
          <p:nvPr/>
        </p:nvSpPr>
        <p:spPr>
          <a:xfrm>
            <a:off x="8102520" y="2668680"/>
            <a:ext cx="316080" cy="2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76" name="矩形 1260557"/>
          <p:cNvSpPr/>
          <p:nvPr/>
        </p:nvSpPr>
        <p:spPr>
          <a:xfrm>
            <a:off x="7219800" y="3205080"/>
            <a:ext cx="316080" cy="2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77" name="矩形 1260558"/>
          <p:cNvSpPr/>
          <p:nvPr/>
        </p:nvSpPr>
        <p:spPr>
          <a:xfrm>
            <a:off x="7188120" y="3741840"/>
            <a:ext cx="306360" cy="2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78" name="椭圆 1260559"/>
          <p:cNvSpPr/>
          <p:nvPr/>
        </p:nvSpPr>
        <p:spPr>
          <a:xfrm>
            <a:off x="7612200" y="3701880"/>
            <a:ext cx="239400" cy="3128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79" name="矩形 1260560"/>
          <p:cNvSpPr/>
          <p:nvPr/>
        </p:nvSpPr>
        <p:spPr>
          <a:xfrm>
            <a:off x="7986600" y="3730680"/>
            <a:ext cx="316080" cy="2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80" name="矩形 1260561"/>
          <p:cNvSpPr/>
          <p:nvPr/>
        </p:nvSpPr>
        <p:spPr>
          <a:xfrm>
            <a:off x="7156440" y="4287960"/>
            <a:ext cx="316080" cy="2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4T00:29:45Z</dcterms:created>
  <dc:creator/>
  <dc:description/>
  <dc:language>en-US</dc:language>
  <cp:lastModifiedBy>万润仪器贸易公司</cp:lastModifiedBy>
  <dcterms:modified xsi:type="dcterms:W3CDTF">2020-08-24T00:29:50Z</dcterms:modified>
  <cp:revision>136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